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BB0B-C77B-4856-9DF1-63567DA50B5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F371-A312-4EF0-A738-A6832351064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9321-77D1-474B-A613-26A39C0DAE9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45E1-8C9F-4C7B-B0FB-9175F66BE9F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55A64-C7DA-4191-8ACD-CA1BD4F91CF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3236-3F72-41A4-BF41-3A8BEDB1E0A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15D3-55EC-42D6-ABE2-4CBDC847469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373D-3C24-4705-A5E8-CE4BF681231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B5F4-BFE8-4436-B321-82736301978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75EA1-F430-473C-A521-8AF3254585A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0B58-C950-476A-A8FE-A4EDD150E86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AF56-0B83-43AC-8151-B99DA9A44C4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E508-4C76-44EC-BA1E-7AC9EE022BD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A9D6C2-FC6B-4A90-80AF-60A7DD401B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4864DA-5490-4D5D-A51F-7529511012D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759855-90B0-4CE4-80AC-C2D596776AA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657C4E-23CF-42F1-BD58-A9FC7E7C4E6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B5AF62-DD82-400E-884D-E545726E4B2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6B2792-CC12-4C04-A7CA-7A0090CC090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B9AAB3-194C-434A-B76A-E215EED372B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1489F6-AE06-4341-A41E-55431A65DD8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ECB3E5-049B-49F0-83F0-4F78337F918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B5E47B-9653-433B-98CB-714DF34C4BD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3449D9-3AC5-41D8-8247-73AA32BE4C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B9A6CE-2306-4405-ACF1-12A32929C7A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702496-0759-477C-A602-17AD4A38F5E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6F8444-A824-4254-8C61-97C22DAEE03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AB4D80-60D9-4958-9923-DF639A66C03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00C337-F0B2-4691-946F-2E882CFB029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00F3F1-39EE-4116-AF5C-F3F4E066076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7EA1E3-1B21-48B5-BC72-E14DA8EA3B0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7B09BF-798A-4DD4-82D1-ED981F04F6B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79E3FE-2243-4998-9AFB-AEA9B8B440A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2DFAB8-0754-415F-9B93-93B550A889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7EBBF-664B-43C2-ABFD-CD325DEDCE1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7CCB72-7147-4E82-BF19-DA580E177D5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49BC68-7AF5-45F0-98E6-088CEB154A5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D0B391-F3E6-40E4-9C75-877D4CD2094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A0BB0-1BF9-4C83-99F4-5A3009C8D50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5D49C-04DC-43C2-92E8-CC7DC0C34AF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6EF24-9D66-4770-904B-71D4B170E03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9ADF3-C636-476F-A82D-5F559672154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23C7F-96DF-4402-A49C-FA93AE28967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4B54B-8EEA-4BC5-A8A5-46239684819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419B2-37BB-4246-9449-B6B4C7481E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C1D2D-B190-4547-AA31-35CB08584BC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AF38A-0F12-4A08-BF15-B88F347796D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607A1-23B0-4E8F-BEFC-DA93325CEA0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7F8B7-EC8D-4357-BC18-FB7A9774008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A3664-AB5E-43D0-AB0A-F051471C345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1AACC-D9AF-46A6-BD52-CAC50CA8906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87B8B5-BE33-4141-8DE5-64A0D15CCB6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C74512-59DE-4B26-AE08-2FE51AC80F8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50DBDF-6B9D-46F7-9AD9-AD7C701FACB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7FECD8-D586-4A4B-ACED-15E09560F5A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73DD50-6AAB-4FE9-A169-14A07EA00C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444D6-5461-4E32-9DD9-4C80A2727EED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C5AB43-D8DB-4EB5-A1D3-3D09A2ED422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FDB685-13D3-4358-8430-6E7F3D785BB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4FAC5C-4815-46BF-AB24-3CAC17E5682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DE7010-D421-4904-9B37-209772B39B4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C711FD-8B46-4F00-9A21-1C8FDB8F0C3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9CD0A8-CB6A-48AF-B576-F64307C54DD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4EF609-B9B0-4873-8BF9-8ABF35F621D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E067E6-341C-4663-8A99-ABE301256EA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92304B-9B7F-45FB-B2BC-19B895CC339C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3B2606-92BE-4AD4-8A71-D37CB33FF7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8F14A-9CCE-474D-AAC8-F0ED591C27BE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9AC84D-0E4A-4BBA-89D5-D185B76D1E6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B4D4B4-2C68-47BB-A51E-60DECDE2ABA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039394-530A-464C-9392-D4A6ED83377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DFEB71-1E58-48E6-B84B-DB6DD1217EA0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76B57B-16CD-4117-B385-58262A90BD0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9D5771-5765-4EB5-8E80-9B82CFCB17B1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01E9FE-79B9-49E1-BB93-9A2E962E9CCD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BA2AC2-72DE-4876-B739-0B25F7EA437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697441-98C9-46A8-BB3E-EA501159186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31E86-E507-45D3-935F-BDAAB53BEF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70CA8-980F-410B-BC62-B6A3E3176DC5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AE7B8-5823-4867-B234-C06FE8F5A8B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15DF9-AFC4-43C2-97E0-7C49C011209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B502F-8C40-4055-BEBA-FBCC67441432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D3938-27CB-4619-A2BB-B7216415D2F7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7059A-3319-49BA-8786-52B06749BB1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55197-0AE3-472E-8305-B5322C07841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C9986-3A85-455C-A52A-E220A312EA75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DDB7D-B206-4481-8B00-84B9E8DF3E2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4C692-021C-4727-89F4-96C75200C8E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0C8CF-E961-45D7-938B-398EA4135A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64C51-1A8A-42F8-8D66-9955D95464B8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43644-717E-4494-9937-AF2AE4BC8C11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0DB7D4-B00D-423B-A142-53F111548226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F6F728-8495-4DD2-9AA2-4A990DAD7E8B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E63107-D263-4610-928D-AE72749CE6B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BC6524-BECB-47CA-914E-F8537394E458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665F9D-A49B-4084-922A-FD28C836A140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8FBF09-363E-4461-83E5-516340A7807A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31095C-E145-4935-A463-CB56972A1F70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830FDF-41E7-4E9A-A92F-4F6228C93BA7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1306C7-4010-4208-B2C2-9913412583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BFC9C-756A-41F4-A331-EB69C33B3A2D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F646F6-A002-4650-B7DD-8BBAC4249578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2B8200-050C-435F-93C7-495316F03B7E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CEAAD9-D4DB-4A20-ABF3-790BF5984323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26A9B8-C6E3-4C99-AD59-7C6709C2AC5C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10ACC6-FAD0-4E66-AC60-800893C12AD9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2A40A8-9CF5-49E6-A91C-0B0AC99803F2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18BBBA-EC8C-4935-8044-3C3914499158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E2BF9B-8BA7-4B5B-B563-1BC7FE65DF5C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B6E25D-F8FA-4AA0-9220-DE367964B3EF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086545-E3B1-4D09-B658-76CD982EBD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10AAC-B1F2-4780-B600-85C884744232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97E872-6B1E-4F06-AB87-2F64D500E838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FD6885-8BCF-4EE0-8DB8-C89B2AD1571B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924AB4-6F4A-4C16-86BE-29373F3C5F1A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EB05D3-7724-477B-9533-6C64A6B1071B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82CCE5-2127-4821-8828-0BE8B9211BDC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3BA5C-0806-4CB2-AD80-DD382EFE5AB3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6B87E-2FB6-477B-A8B4-D3C4C4049256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3BE78-DA0C-4567-B254-93C48956CACC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8F3F1-61E3-4342-B68B-06B43361A978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3CBBC-1ECE-4E41-AF0E-438A4B00E5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5CBF6-5FD6-4421-A8E5-39E4D0255E18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0AFD4-7506-4114-BE8D-42067637A48B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1B647-9EB3-48CC-AF9F-A9D2821805E8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EB81D-0076-4CC8-AEA4-92391794C7E5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F2BFF-51C7-46C3-83AA-73C33812A1D8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58FB6-C2DD-4EB0-A1FB-A10824888ABC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3667A-0C6E-4505-8B1D-4350A63F0639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00CE6-F3BC-4345-ACC2-6E33A02C2BED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C3680F-833F-4E1C-9887-9E06A54F04D8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39590B-2082-4CAE-BFE0-BD88612857A3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3D2CAE-6F82-4B24-882E-38D104C712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7EF01-3A2C-4797-9FA1-67951BD40B02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88F6BF-7C5B-4848-83C3-40570031B97A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6ECB6D-AE2E-469B-B4D2-42C79AA7014F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899D2A-F99A-4438-A4D2-872C09EF0CD5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6C0D96-3CC4-40B2-95C0-92EF62CA895B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E74C69-372D-4906-84CC-58E57AF231E0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2BA0B7-E954-4184-9675-82272B78F469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BB28B0-4E80-4361-BADB-CAC53B739808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311639-E381-4D5A-9179-5F7491354CC7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DFD306-4C56-43D1-AFA9-E914EDFA05CC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9D6333-4C79-4056-A179-1E4A3E6A92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C3253-B285-4E5B-8B9F-0FD6E882A6DA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4E264D-3EF9-4EDA-9B29-FFA07F8EF030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1AE376-419B-4E5A-83D2-630432CD2B25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34C998-D7FC-48BC-839D-FAB8776CED79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B08ACA-3BD7-425D-928A-22F98CBA71BD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CD6143-B3D5-4A3B-9224-665F1007D87F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F1C91E-9D9D-4FAF-BE82-A99BE15DB2C0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D8103A-317B-4F56-A198-E2B554010142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002A07-413F-4CA5-86CE-EF44CB5D6B1F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E7959A-9AD8-4C99-AB16-DD6D7C8D4FF1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9D6923-D761-494A-9D1B-4FCBD7E3A2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58E1F-6206-4A1B-8446-515675F3A809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0BFB8C-DE84-4865-B89D-2A57D4B04BB1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25E54-B2A9-41DF-804C-6BAB3F739F1F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AB500-5742-4AD1-825F-2C1F240E84CE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BCD12-34AE-4485-871D-FC232A0E8908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DFEF6-689F-485E-BCBE-70957C7B2233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91E4F-6313-4C4C-AE62-4F05553F8F39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C676C-4B8E-48A8-8F4B-9F669D1307F4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80954-D8B7-456C-B754-FBF5D4FF3507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D0C21-C429-4251-8A45-1F96D958AF1B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D505A-40A9-4DF2-AD72-DBC162B2BFA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D914D-B453-4FAD-9ED6-43E1B38247D4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BFFD5-5787-4D0C-AC28-74A7ED2154D1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96267-A18B-4B7B-ACBE-DD945082CB5C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1A81F6-7559-49E7-AB40-7105836B2625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9A78AB-C34B-4E4F-AE3E-BEB1098475CC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C55EEC-067D-4102-A9AA-6B8BFA51202B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4A237D-B97E-4751-928D-7F9C58078D1A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84CCAB-597F-4AE8-B6BC-05C1BA0A131D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6962FE-B8EE-4FC1-8DB4-86A9E962F193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F93B88-34AC-4E1B-8636-413F26D0ACB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EC69EF-8661-4F54-B3D7-ED67CE636D40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5F2C27-C996-442B-82D2-FBE11F61EEDF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FA1DB0-973F-4467-9A93-EA7046A38822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440892-450E-4390-8950-0FE86D2275AB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AC0B87-6405-436C-9057-06C389DEB434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503F31-D1C8-43F0-9E4F-539D2B61946A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E658D9-9DC2-4D02-983C-561AED54DD5A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4D9690-038A-4810-AD82-7D5112EE0B16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FEADD9-26A7-4D78-88A1-6F54B323530C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411355-F7D0-4616-8759-B86284CB3E3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EFA339-0380-4886-9593-D00A59B70117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C8BB08-62C5-49D6-A4B4-2F1C8CAF7C20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907CC1-F8CE-4B0B-8A48-67CD7D37160E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B0B538-C42C-4BBE-8120-FC645D5D12FD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EB6A62-AA63-4669-BAAB-CC186D205A5A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5626A8-8CB1-4BBD-9551-6200446E9BE3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2EF974-1BA8-458B-BE0B-E15041F74F38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D34AC-AF88-46BC-A0EF-1BEB3E93F307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D7ACD-A57E-4B2A-BED4-18213DD2FD34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92AE2-292B-4DA4-AED3-2233ED0FFD3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725DD-B635-438E-A578-1E9AB063C49D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DD949-D19A-41C6-A6F8-6731F5525E6F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7C324-5C1A-4A7E-90CA-AAFFB94D8AF3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F90A8-B395-4830-8CF6-3F756A18B029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E2B27-F946-47AD-8CF9-90E6C5578CC6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0E49D-03A2-41FD-AE98-CFD77B17C09E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E901D-9303-4ED0-8075-796A1060A403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110B5-DC47-4F15-98AB-83E7969FFAFB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0B0A5-F1FA-4E9F-96CC-FE6C889FC571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ED9688-1371-4EFE-BCBC-4C4D68E2D3B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5470BF-CD3A-4441-846C-DCD43824C4CB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39DAA7-CD0C-42DF-A4C9-EC0EF9FBEC77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004F7D-9205-4C50-8083-68F220792748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F9E882-BEB1-4152-9C2C-2153CE7CEE98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38B817-EC1C-428B-A475-FA38A342F822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FE581C-B737-4A02-A6A4-F31106F5DF04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1143BD-D06C-464B-BA01-E239DC800F3C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D92E5E-4C69-4CFD-9383-B3B5C04E97D8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B43167-A644-41CB-8A59-354CFBD66FFD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5BDEAE-E2F9-4269-B116-A620402763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3C0094-AD11-4B8E-92B7-A216FB6BE8FD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EFF8F4-8591-4C32-8C96-7148D18D7519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E6C89F-D1D9-472B-95AE-4B535A6F48B7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F1991C-4197-4932-8938-B10B5414B775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1504D4-987B-4FDA-A5CF-E9531BFDFF16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52A9F5-CFEF-47E7-A67F-255E4AC229E0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CEDCBC-1E2A-45AC-81F0-9C108BC7315B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2102F7-6AA0-4178-8625-345C45FEF990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4D7770-0FD5-4A99-BDC5-AB7975493534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E46ECE-7A2B-48EA-907D-65BD033B4D4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8BC7C0-2189-44F0-9FC1-8CCDDE42C975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67CA4E-CD2B-4E9B-9422-A5E840043C94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D02920-DA38-4BEA-88F1-DC2D02475EAF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14791-8FC4-4435-ACA0-99FB93D21D68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5F3F4-6BB6-4D0A-9D17-289F8E3B7DB7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430CF-540B-417C-A827-7C7F5127F062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99C04-D1BD-4858-ACA5-6327BC3C5EA4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93FA4-1504-4CF3-A86C-D5C9EB576A61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4B72F-3745-4BA5-ACE8-CD0DB7CC6A48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CBA00-C4AB-44BE-A5CE-1103DA9E41D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43EB6-53AF-493E-803C-2E417191C58F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E089B-AC05-4F14-A767-EA7ABA3DCCA0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CADE5-264F-4E12-A550-00FC243E451C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1D686-E42F-43F9-96D7-39460835E8E3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FF00C-D096-4E07-9381-792D0B3E9CD6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BA593-E2EC-4E77-B216-292256CD325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0A1B6-55E2-4DBC-BEC1-A2F5DB82A7C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74555-1766-42BB-B9B5-DF2F9DF59C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A887A-D797-4417-8AF2-E1BB6DEC0CD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560C1-0EE1-4BE5-9FA3-9A4309825A1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F0807-4711-4218-90A3-85247FA84F3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885DC-8294-4480-AD48-5317B193C69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96BC5-1CF6-42F8-9446-81F422F9042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71AD9-AE85-41B8-9AD9-A3FCA92BC9E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6CE1A-F329-425E-A742-47064992001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3875B-0AE0-437C-9C16-8D8EC6C24F3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33A3D-5427-46A4-83F0-62737DE2CC2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32EA-326C-44CA-8DC1-8C251C47DA3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8AA3-FD5A-4CAE-BEF6-8D00905C654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BCAD-0BD3-4396-9A2E-2360D2290F1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F9D5-C8A5-4257-A4BA-A03A9FA9F3B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72C9-4C9C-4AE2-9A1B-A5AD59685F2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A440-2475-401F-821D-7F606D18F21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7415-1777-4AD5-9705-239D2927495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1501-982C-4A22-BE5E-A35343148D9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0F9B-E713-4384-9489-F3FAD710FE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72D5-FDFE-4EE6-AA93-3FC16E001D3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07DD-374C-43E4-9F63-E506A40E2CA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24DC-6B8D-43AE-A989-59E03811A5E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5CA170-F376-4E9A-90E5-118A9C87895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19EC6B-7277-4B71-AD17-06757F30244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AEA6F2-84A2-41B7-9021-62E736ED8FA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A60A73-D48E-43CE-91EA-73DBF0FBFC3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CF963E-19E8-4451-9E65-9754349745E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5CB99-2D1B-4F3E-AA28-339A5118E64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89B08C-67AF-4A5E-A950-9AE61FCBD8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7A512C-C662-459B-A85C-F491EDE1E9B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8467BC-FD10-4D67-BF7B-D29AA453AF0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625AEE-5921-47FD-8677-8AF6FF16D71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2E66E-8783-4673-8F91-0FC13384503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F53EAC-9AAA-44FA-961E-9F865F27C7E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9DCC74-3DFE-406D-8039-62F660E4086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23D14-AAC8-4D0B-BCB1-996E320AC4B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DB5B66-90FB-497D-8E72-BF48B890E82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C9CD2-CC63-47A4-923D-543369EAC95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08A4F-3CFF-40F2-B929-8036FBBAC4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0ECCD-74A9-48F7-A80D-B3F0B8492F6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184590-4CCC-4E95-A59F-FAF6D0C5A5E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DAE58-8312-4F9D-B15A-CC5D94D55C1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D234F-C83F-47A4-AD33-588A6AC809C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8603C1-A91F-42BB-AB54-AD2DC474523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D72CED-BA26-4BB8-BC54-BAA2BA31B08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E24F9-40A3-45BD-A54F-E98002279A6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CA77-1784-4284-B4EB-A2B81C22B73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7AB3-4959-440C-942B-F239288877E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0310-A393-4F50-8E30-6099D67C37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rcRect l="0" t="0" r="920" b="17297"/>
          <a:stretch/>
        </p:blipFill>
        <p:spPr>
          <a:xfrm>
            <a:off x="-36360" y="6105600"/>
            <a:ext cx="9180360" cy="779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D783-F51F-4F3E-A76A-7628ABDE22B3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B954-C5B0-4BA1-BBAA-36B9A3109375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0814-89E0-4DA5-B724-11011534F595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4F83-BFCC-4CBC-8780-FFFE85C6BACB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61E4-BF83-40F0-BBFE-864229F4B9DB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EC5E-A25B-4540-AE34-EE88F145AA4F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D887-9AB0-498B-B1A8-288DF0F3E86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2D4A-8527-4ACD-9446-A21050AA13F9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4444-2CA3-4010-850F-2E6ED1E9866A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584A-67E5-4900-AB1D-DF562741B38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A0A0-6C79-4613-B0B0-AB7A4237A82D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C56B-EC1D-4D16-BFCC-A5575BFB22D4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B531-4740-4415-9547-8383062DDA2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6F74-5995-4C7E-9AEB-671ACB648F27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4B37-6995-487B-880D-1C607129FF99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8C53-DAE0-4F3C-9084-2477FE1265A9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CDFB-545F-4981-B1F7-E9FB70EAC7BA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13C59-903D-4F27-9EA8-A7126FCD6FE1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6000-2072-4B26-A27D-16797C1AD11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92C0-4C91-43E2-8597-9953064827D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27B3-8B3D-40CB-A35E-FA3CD6053F22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EACD-BAFF-4476-BD82-A7D5EB30D48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F11F0-0AA2-47EA-A241-CED2CD60724D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B176-463B-4D3B-88BF-117D2E5FC692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0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859200"/>
            <a:ext cx="408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Calibri"/>
              </a:rPr>
              <a:t>Pas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Calibri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Bogotá D.C., Diciembre de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Text Box 3"/>
          <p:cNvSpPr/>
          <p:nvPr/>
        </p:nvSpPr>
        <p:spPr>
          <a:xfrm>
            <a:off x="1244520" y="573120"/>
            <a:ext cx="68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5 CuadroTexto"/>
          <p:cNvSpPr/>
          <p:nvPr/>
        </p:nvSpPr>
        <p:spPr>
          <a:xfrm>
            <a:off x="672840" y="5300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Text Box 4"/>
          <p:cNvSpPr/>
          <p:nvPr/>
        </p:nvSpPr>
        <p:spPr>
          <a:xfrm>
            <a:off x="0" y="5516640"/>
            <a:ext cx="925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*Otras ramas: Agricultura, ganadería, caza, silvicultura y pesc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suma de las participaciones puede diferir de 100%  por la no inclusión de la categoría “no informa” y por efecto de decimales.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3" name="1 Imagen" descr=""/>
          <p:cNvPicPr/>
          <p:nvPr/>
        </p:nvPicPr>
        <p:blipFill>
          <a:blip r:embed="rId1"/>
          <a:stretch/>
        </p:blipFill>
        <p:spPr>
          <a:xfrm>
            <a:off x="898560" y="1557360"/>
            <a:ext cx="756900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Text Box 3"/>
          <p:cNvSpPr/>
          <p:nvPr/>
        </p:nvSpPr>
        <p:spPr>
          <a:xfrm>
            <a:off x="1728720" y="55548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Text Box 4"/>
          <p:cNvSpPr/>
          <p:nvPr/>
        </p:nvSpPr>
        <p:spPr>
          <a:xfrm>
            <a:off x="382680" y="5457960"/>
            <a:ext cx="78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Otras ramas: Agricultura, ganadería, caza, silvicultura y pesc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5 CuadroTexto"/>
          <p:cNvSpPr/>
          <p:nvPr/>
        </p:nvSpPr>
        <p:spPr>
          <a:xfrm>
            <a:off x="891360" y="5254560"/>
            <a:ext cx="1360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8" name="1 Imagen" descr=""/>
          <p:cNvPicPr/>
          <p:nvPr/>
        </p:nvPicPr>
        <p:blipFill>
          <a:blip r:embed="rId1"/>
          <a:stretch/>
        </p:blipFill>
        <p:spPr>
          <a:xfrm>
            <a:off x="1060560" y="1706400"/>
            <a:ext cx="7134120" cy="35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0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01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gosto – Octu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Text Box 3"/>
          <p:cNvSpPr/>
          <p:nvPr/>
        </p:nvSpPr>
        <p:spPr>
          <a:xfrm>
            <a:off x="1312920" y="557280"/>
            <a:ext cx="68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5 CuadroTexto"/>
          <p:cNvSpPr/>
          <p:nvPr/>
        </p:nvSpPr>
        <p:spPr>
          <a:xfrm>
            <a:off x="617400" y="5157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5" name="1 Imagen" descr=""/>
          <p:cNvPicPr/>
          <p:nvPr/>
        </p:nvPicPr>
        <p:blipFill>
          <a:blip r:embed="rId1"/>
          <a:stretch/>
        </p:blipFill>
        <p:spPr>
          <a:xfrm>
            <a:off x="952560" y="1778040"/>
            <a:ext cx="7734240" cy="3300480"/>
          </a:xfrm>
          <a:prstGeom prst="rect">
            <a:avLst/>
          </a:prstGeom>
          <a:ln w="0">
            <a:noFill/>
          </a:ln>
        </p:spPr>
      </p:pic>
      <p:sp>
        <p:nvSpPr>
          <p:cNvPr id="1306" name="Text Box 4"/>
          <p:cNvSpPr/>
          <p:nvPr/>
        </p:nvSpPr>
        <p:spPr>
          <a:xfrm>
            <a:off x="71280" y="5373720"/>
            <a:ext cx="8748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*Trabajador sin remuneración :  Incluye al Trabajador familiar sin remuneración; trabajador sin remuneración en empresas de otros hog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Text Box 4"/>
          <p:cNvSpPr/>
          <p:nvPr/>
        </p:nvSpPr>
        <p:spPr>
          <a:xfrm>
            <a:off x="34920" y="5589720"/>
            <a:ext cx="8748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^Trabajador particular incluye jornalero o pe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Text Box 3"/>
          <p:cNvSpPr/>
          <p:nvPr/>
        </p:nvSpPr>
        <p:spPr>
          <a:xfrm>
            <a:off x="1787400" y="51264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8 CuadroTexto"/>
          <p:cNvSpPr/>
          <p:nvPr/>
        </p:nvSpPr>
        <p:spPr>
          <a:xfrm>
            <a:off x="1053360" y="5157720"/>
            <a:ext cx="146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Text Box 4"/>
          <p:cNvSpPr/>
          <p:nvPr/>
        </p:nvSpPr>
        <p:spPr>
          <a:xfrm>
            <a:off x="71280" y="5373720"/>
            <a:ext cx="8748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*Trabajador sin remuneración :  Incluye al Trabajador familiar sin remuneración; Trabajador sin remuneración en empresas de otros hog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3" name="1 Imagen" descr=""/>
          <p:cNvPicPr/>
          <p:nvPr/>
        </p:nvPicPr>
        <p:blipFill>
          <a:blip r:embed="rId1"/>
          <a:stretch/>
        </p:blipFill>
        <p:spPr>
          <a:xfrm>
            <a:off x="1293840" y="1773360"/>
            <a:ext cx="7004160" cy="3305160"/>
          </a:xfrm>
          <a:prstGeom prst="rect">
            <a:avLst/>
          </a:prstGeom>
          <a:ln w="0">
            <a:noFill/>
          </a:ln>
        </p:spPr>
      </p:pic>
      <p:sp>
        <p:nvSpPr>
          <p:cNvPr id="1314" name="Text Box 4"/>
          <p:cNvSpPr/>
          <p:nvPr/>
        </p:nvSpPr>
        <p:spPr>
          <a:xfrm>
            <a:off x="71280" y="5661000"/>
            <a:ext cx="8748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^Trabajador particular incluye jornalero o pe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6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7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gosto – Octu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Text Box 3"/>
          <p:cNvSpPr/>
          <p:nvPr/>
        </p:nvSpPr>
        <p:spPr>
          <a:xfrm>
            <a:off x="1133640" y="711360"/>
            <a:ext cx="68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inactiv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tipo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5 CuadroTexto"/>
          <p:cNvSpPr/>
          <p:nvPr/>
        </p:nvSpPr>
        <p:spPr>
          <a:xfrm>
            <a:off x="691920" y="4869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Text Box 4"/>
          <p:cNvSpPr/>
          <p:nvPr/>
        </p:nvSpPr>
        <p:spPr>
          <a:xfrm>
            <a:off x="444600" y="5354640"/>
            <a:ext cx="850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categoría “otros” incluye: Incapacitado permanente para trabajar, rentista, pensionado, jubilado, personas que no les llama la atención o creen que no vale la pena trabaj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3" name="1 Imagen" descr=""/>
          <p:cNvPicPr/>
          <p:nvPr/>
        </p:nvPicPr>
        <p:blipFill>
          <a:blip r:embed="rId1"/>
          <a:stretch/>
        </p:blipFill>
        <p:spPr>
          <a:xfrm>
            <a:off x="1944720" y="1557360"/>
            <a:ext cx="528012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5 CuadroTexto"/>
          <p:cNvSpPr/>
          <p:nvPr/>
        </p:nvSpPr>
        <p:spPr>
          <a:xfrm>
            <a:off x="545760" y="54133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Text Box 3"/>
          <p:cNvSpPr/>
          <p:nvPr/>
        </p:nvSpPr>
        <p:spPr>
          <a:xfrm>
            <a:off x="1133640" y="620640"/>
            <a:ext cx="687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roporción del empleo informal en la población ocupa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otal 13 ciudades y áreas metropolitanas y Past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Agosto – Octubre </a:t>
            </a: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(2014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6" name="1 Imagen" descr=""/>
          <p:cNvPicPr/>
          <p:nvPr/>
        </p:nvPicPr>
        <p:blipFill>
          <a:blip r:embed="rId1"/>
          <a:stretch/>
        </p:blipFill>
        <p:spPr>
          <a:xfrm>
            <a:off x="1935000" y="2063880"/>
            <a:ext cx="530568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5 CuadroTexto"/>
          <p:cNvSpPr/>
          <p:nvPr/>
        </p:nvSpPr>
        <p:spPr>
          <a:xfrm>
            <a:off x="703080" y="50472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cc0066"/>
                </a:solidFill>
                <a:latin typeface="Calibri"/>
                <a:ea typeface="Calibri"/>
              </a:rPr>
              <a:t>Pas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9" name="1 Imagen" descr=""/>
          <p:cNvPicPr/>
          <p:nvPr/>
        </p:nvPicPr>
        <p:blipFill>
          <a:blip r:embed="rId1"/>
          <a:stretch/>
        </p:blipFill>
        <p:spPr>
          <a:xfrm>
            <a:off x="1636560" y="3716280"/>
            <a:ext cx="5877000" cy="1800360"/>
          </a:xfrm>
          <a:prstGeom prst="rect">
            <a:avLst/>
          </a:prstGeom>
          <a:ln w="0">
            <a:noFill/>
          </a:ln>
        </p:spPr>
      </p:pic>
      <p:pic>
        <p:nvPicPr>
          <p:cNvPr id="1330" name="2 Imagen" descr=""/>
          <p:cNvPicPr/>
          <p:nvPr/>
        </p:nvPicPr>
        <p:blipFill>
          <a:blip r:embed="rId2"/>
          <a:stretch/>
        </p:blipFill>
        <p:spPr>
          <a:xfrm>
            <a:off x="1446120" y="1484280"/>
            <a:ext cx="62899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1 CuadroTexto"/>
          <p:cNvSpPr/>
          <p:nvPr/>
        </p:nvSpPr>
        <p:spPr>
          <a:xfrm>
            <a:off x="684360" y="333360"/>
            <a:ext cx="78483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Nariñ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An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2007 -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4 CuadroTexto"/>
          <p:cNvSpPr/>
          <p:nvPr/>
        </p:nvSpPr>
        <p:spPr>
          <a:xfrm>
            <a:off x="1048320" y="5695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3" name="1 Imagen" descr=""/>
          <p:cNvPicPr/>
          <p:nvPr/>
        </p:nvPicPr>
        <p:blipFill>
          <a:blip r:embed="rId1"/>
          <a:stretch/>
        </p:blipFill>
        <p:spPr>
          <a:xfrm>
            <a:off x="995400" y="1758960"/>
            <a:ext cx="722772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gosto – Octu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Rectangle 1"/>
          <p:cNvSpPr/>
          <p:nvPr/>
        </p:nvSpPr>
        <p:spPr>
          <a:xfrm>
            <a:off x="0" y="763560"/>
            <a:ext cx="4643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654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Pasto</a:t>
            </a:r>
            <a:r>
              <a:rPr b="1" lang="es-ES" sz="1600" spc="-1" strike="noStrike">
                <a:solidFill>
                  <a:srgbClr val="cc0066"/>
                </a:solidFill>
                <a:latin typeface="Calibri"/>
                <a:ea typeface="Calibri"/>
              </a:rPr>
              <a:t>  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5 CuadroTexto"/>
          <p:cNvSpPr/>
          <p:nvPr/>
        </p:nvSpPr>
        <p:spPr>
          <a:xfrm>
            <a:off x="1044360" y="4822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4" name="1 Imagen" descr=""/>
          <p:cNvPicPr/>
          <p:nvPr/>
        </p:nvPicPr>
        <p:blipFill>
          <a:blip r:embed="rId1"/>
          <a:stretch/>
        </p:blipFill>
        <p:spPr>
          <a:xfrm>
            <a:off x="525600" y="1916280"/>
            <a:ext cx="798336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5" name="1 Imagen" descr=""/>
          <p:cNvPicPr/>
          <p:nvPr/>
        </p:nvPicPr>
        <p:blipFill>
          <a:blip r:embed="rId1"/>
          <a:stretch/>
        </p:blipFill>
        <p:spPr>
          <a:xfrm>
            <a:off x="2925720" y="396720"/>
            <a:ext cx="6162840" cy="5454720"/>
          </a:xfrm>
          <a:prstGeom prst="rect">
            <a:avLst/>
          </a:prstGeom>
          <a:ln w="0">
            <a:noFill/>
          </a:ln>
        </p:spPr>
      </p:pic>
      <p:sp>
        <p:nvSpPr>
          <p:cNvPr id="126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Text Box 3"/>
          <p:cNvSpPr/>
          <p:nvPr/>
        </p:nvSpPr>
        <p:spPr>
          <a:xfrm>
            <a:off x="179280" y="2357280"/>
            <a:ext cx="2737080" cy="14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Agosto – Octubre 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8 CuadroTexto"/>
          <p:cNvSpPr/>
          <p:nvPr/>
        </p:nvSpPr>
        <p:spPr>
          <a:xfrm>
            <a:off x="3070080" y="5921280"/>
            <a:ext cx="568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(+) (-): Aumento o disminución de la TD de cada ciudad frente al mismo trimestre móvil  del año anterio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3 Rectángulo"/>
          <p:cNvSpPr/>
          <p:nvPr/>
        </p:nvSpPr>
        <p:spPr>
          <a:xfrm>
            <a:off x="2932200" y="3975120"/>
            <a:ext cx="5905440" cy="16524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1 Rectángulo"/>
          <p:cNvSpPr/>
          <p:nvPr/>
        </p:nvSpPr>
        <p:spPr>
          <a:xfrm>
            <a:off x="384120" y="4883040"/>
            <a:ext cx="2232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* El total de las 23 ciudades no incluye San Andrés por tener una distribución de la muestra diferente. Los resultados presentados para San Andrés corresponden al período mayo -octubre 2015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1 Rectángulo"/>
          <p:cNvSpPr/>
          <p:nvPr/>
        </p:nvSpPr>
        <p:spPr>
          <a:xfrm>
            <a:off x="3132000" y="5491080"/>
            <a:ext cx="45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ran Encuesta Integrada de Hogares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Text Box 3"/>
          <p:cNvSpPr/>
          <p:nvPr/>
        </p:nvSpPr>
        <p:spPr>
          <a:xfrm>
            <a:off x="14414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Text Box 3"/>
          <p:cNvSpPr/>
          <p:nvPr/>
        </p:nvSpPr>
        <p:spPr>
          <a:xfrm>
            <a:off x="1428840" y="711360"/>
            <a:ext cx="64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ast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Agosto – Octubre (2006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5 CuadroTexto"/>
          <p:cNvSpPr/>
          <p:nvPr/>
        </p:nvSpPr>
        <p:spPr>
          <a:xfrm>
            <a:off x="758520" y="5614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7" name="1 Imagen" descr=""/>
          <p:cNvPicPr/>
          <p:nvPr/>
        </p:nvPicPr>
        <p:blipFill>
          <a:blip r:embed="rId1"/>
          <a:stretch/>
        </p:blipFill>
        <p:spPr>
          <a:xfrm>
            <a:off x="966960" y="2092320"/>
            <a:ext cx="714024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Text Box 3"/>
          <p:cNvSpPr/>
          <p:nvPr/>
        </p:nvSpPr>
        <p:spPr>
          <a:xfrm>
            <a:off x="992160" y="54936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Pas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s móviles  2011-201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5 CuadroTexto"/>
          <p:cNvSpPr/>
          <p:nvPr/>
        </p:nvSpPr>
        <p:spPr>
          <a:xfrm>
            <a:off x="2139840" y="5445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0" name="1 Imagen" descr=""/>
          <p:cNvPicPr/>
          <p:nvPr/>
        </p:nvPicPr>
        <p:blipFill>
          <a:blip r:embed="rId1"/>
          <a:stretch/>
        </p:blipFill>
        <p:spPr>
          <a:xfrm>
            <a:off x="1452600" y="1778040"/>
            <a:ext cx="62197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4"/>
          <p:cNvSpPr/>
          <p:nvPr/>
        </p:nvSpPr>
        <p:spPr>
          <a:xfrm>
            <a:off x="1908000" y="620640"/>
            <a:ext cx="489600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ast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Agosto – Octubre (2014 – 2015)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2" name="1 Imagen" descr=""/>
          <p:cNvPicPr/>
          <p:nvPr/>
        </p:nvPicPr>
        <p:blipFill>
          <a:blip r:embed="rId1"/>
          <a:stretch/>
        </p:blipFill>
        <p:spPr>
          <a:xfrm>
            <a:off x="552600" y="2492280"/>
            <a:ext cx="82245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4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5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7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8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gosto – Octu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7T13:39:03Z</dcterms:created>
  <dc:creator>jcolarteb</dc:creator>
  <dc:description/>
  <dc:language>en-US</dc:language>
  <cp:lastModifiedBy>Daniel Gerardo Gil Sanchez</cp:lastModifiedBy>
  <cp:lastPrinted>2015-06-02T14:27:28Z</cp:lastPrinted>
  <dcterms:modified xsi:type="dcterms:W3CDTF">2015-12-03T21:08:45Z</dcterms:modified>
  <cp:revision>931</cp:revision>
  <dc:subject/>
  <dc:title>PRINCIPALES RESULTADOS DEL MERCADO LABORAL JUNIO de 2012 Resultados Marco 2005.  Datos expandidos con proyecciones de población elaboradas con base en los resultados del Censo 2005  Julio 31 de 2012</dc:title>
</cp:coreProperties>
</file>